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EEA-123B-420C-B213-4F348813A76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083-70BD-488C-A966-8AA5EC88B75E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D977-1497-4EA9-BD76-059BB92093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FE1-2195-4DDA-A47D-F609C280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1CB-5162-4790-B4F3-3C5894C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508B4-04F9-477D-BE46-D8500FC6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34586-3207-4F2E-B9F9-82AFEAFA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0B829-9DBD-49AC-B68B-21377D6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084CC-F022-4EED-A367-A81FCBC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EEA9A-5F0C-410E-A8E0-03862A8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D749D-4DEA-402B-8A76-E5247CE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17171-94AD-4AD0-9ACF-326C239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DBE95-5820-4261-B754-08F64CD7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A5FD4-B425-471D-87A3-E435EF60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C5D9C-819E-40E8-AC73-768A970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BB5-E6D4-4CB3-9CF7-547C00AA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43255-969E-4F3B-A81E-AE0BB637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E22D-2072-4A15-9684-F25B0B57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3B36D-C5FD-44C0-BEDB-A7DA018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7A8BB-D32D-40C7-B0FA-4EAC2D3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832B7-F566-4A71-9DDB-CFA21AA8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ACC0C-C62A-490F-A421-429DBF4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79252-FDCC-49DE-A0F0-52F7FFB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BE587-F3DC-4AF1-85C0-923DC54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D87C9-D414-492C-B3D2-E3584908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E9923-9873-4D4E-9AB0-86B68D1B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ABF-E1D0-4F35-9992-0B68B3CC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10D0C-8041-4CAC-9827-0BB66853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C997F-5F2B-4B87-A74A-10B19AD0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C879-2455-4A8A-8BF2-664B5FA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2E057-0186-4C3E-AC2A-B97F579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E5AF4-1F3E-4772-8B6D-9E257584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41B22-8AEF-4CC1-9367-63BE94FC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09FAC-C439-43B7-98D8-D123493D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FD77C-E509-413B-91E0-B1F6F101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F7B1A-2C6D-4183-A857-4FCDC7BA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FFD8-C6B6-4B19-AFA5-0246CA2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DE64-AD29-49A8-9A96-436599E6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ED94-69A6-4575-B629-C22CC9E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47723-123D-4187-BAFC-EB8DD9FE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339BC-4CA8-4E59-813E-16D30BA5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076F0-B105-4D08-B3E7-330D863A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7B598-34DC-40C1-8334-6A14DE9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862BD-2955-4EA6-9569-87FB806F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430EF-B4A5-43EB-949D-5ED54EB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9199A-E81B-48D7-8B1A-0EB4594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7BFDE-DA47-4891-8B82-5F8A06E5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6C125-4224-45F5-960D-BDA3FBC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A5B7-2C91-4069-9A30-675E4CA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34968-89BD-410D-95A3-2CC4728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AA491-7B55-4957-B67B-CB78BDA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30812-2410-42CD-8A9C-E703CD8B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AA494-E347-47A2-9505-3CC65F61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1B8C8-A645-46EC-A68A-5A38B5D9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BD5F-A0CD-4A53-A0CE-E3D6759B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B14E-64BA-4AE5-8005-6655113B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4DAE-7DE1-4B72-B755-2AE9B4F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2888-D0B9-4A7E-BCA0-125EFCDC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58DA-74F8-4613-9389-F07ECA5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6F6-A01E-468B-8DF9-1554B22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56FE-2EF5-4FCB-99D8-467F4FB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4F25-229E-41B0-A108-587C0514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F94A-48E5-4325-96FA-C14BA42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0630-3B12-419B-B1CF-90AFD7BD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1C83-2C16-494D-B83A-A52FC041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452C-E85F-47E9-A241-2A24F93E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E29A-106C-4342-9F71-0B985AF7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24EF-6F67-4FBB-90CC-50DD3DFD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161B-D4F8-4E73-925C-233AD072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FFAF-0940-4EC5-9E42-9EC4A7E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611-3F18-4A8C-833B-A3031ECF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5F84-5AC6-4B2F-BEB9-57728774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C844-2A5D-4FB9-875E-8DF62A3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6094-0796-4ECF-9EDB-3283C1A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0D4E-625E-4EE6-9E5E-E8FD97A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B891-A764-4C36-A44C-D850BDE8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5C5B-1BD9-49F7-9DAF-328D29BC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9ED9-0E4A-4051-A516-60197525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C636D-D485-4BA5-8619-9AE4D9AA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3918-C2C7-41A5-9C1C-2FB65638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3DBE-B2A4-4223-8659-9D933D1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B32-BD1A-4110-A1AD-9013449B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80AC-2ACC-489A-89C9-A73CCAC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31E5-F9CB-4D38-8775-69BDAC8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8A8A-8236-4594-8683-B098F20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0CE7-C1C7-4B93-9C04-4BCB2F4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3ED4-6B75-4FEE-B35E-B05754E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3CBD-8160-48A2-9200-81F0E4F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9311-1896-4DF1-8128-7C01F0E0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27976-6200-47EC-B1C4-DE12C128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DB38-752D-4DAD-A549-A9AC63D2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37CA4-F8F4-4C57-9FBC-39E0DCE9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87F-CAAC-4629-B803-9BE05E52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1D2F-B691-4D3E-8F03-B5079E3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E9D6-744C-4034-A2E3-7BB70775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76E4-FF5B-482B-977C-13A5831C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762E-0B6F-4FD1-8B7A-6B64057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500B7-8995-41BF-BD38-A9E7A1B0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156D-2ADC-4439-A24C-D426C14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36BD-E9B8-41E5-AA15-82AFF57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96FAD-2568-4861-9687-953E9A7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BD86-4AB0-4876-AD8B-BE3725B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7658-B8F1-4BE1-B0E7-73B79B65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65F-7547-49A3-8939-B331660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FEBB4-344E-45BB-A253-FEC05628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DAB8-4B12-4688-8016-1AA73C35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C2D1-5C76-4BE2-8087-9F0A391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ED02-7496-4040-8056-98958213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9D85-82FC-428D-B248-3BFBCDC7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86C0-8B2D-45CD-9E91-8E6DF4D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E684-566A-4683-992F-B89ECA5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E612-2A23-4905-AE0C-48FB7FB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CBE9D-8A07-4847-AA22-B09CE00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4D764-118A-4520-9605-78ADA34C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A72-9042-42B5-B52A-AA6E156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E06BC-DC88-495E-A5A9-ADCA9D9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173E-241B-4E46-94D0-68755889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4C098-63C6-4341-9971-AA55D9E1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BB64-042E-4159-B332-47218940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C558-2490-4DE6-B4E3-895A8BE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3D79B-E903-4690-BA35-9EEA98F9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3F12-BCDD-44FA-891E-5A76A59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BEE4-7226-4709-875A-B315176F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0F66-4FB0-4F43-B7F2-CE556BF0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E41EB-9E4C-4E6E-AB10-3A4E1DA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851-6336-4C1E-BAD7-3F0C0ABF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4004-5823-460C-9966-04803515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DC5BE-45E8-469E-B53A-669D918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B346F-92CC-4088-A053-47633751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760DB-C04B-4492-8CC6-9EFA5BC0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D4D1D-79DA-4848-8C5C-680AD19A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C1B4-9321-4272-BB7E-1E7864A6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4F5E3-47D2-4D5E-9424-EC30C847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5924-860D-4BE2-B7DD-69938EBA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29F64-D708-4A60-8235-462EC70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E79C4-F902-4A6D-B489-3A9D8525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93C-5B19-4F73-AEB1-E5ABF6D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B005B-9E5F-426D-8A07-70152AD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7C54-BC11-4F4E-8F5B-03809FFA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19AA6-B1B8-4E50-9F8A-A356607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27259-7DEF-4977-999A-3CCFA530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9C07-EE91-4206-85D5-E9C088D2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A13A0-A5C9-45D1-BF0D-85EAB2A0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D8CAE-3E1D-4E8F-B60E-0E3138E3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55FE8-1389-4389-B70D-959E1773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B35FC-B5E6-4FD8-B616-101D5E0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FDFE9-04BF-46C5-97AB-DF9AF9C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57F-7A52-4617-B780-3301AAE6F85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BE9-25CF-4B43-8332-8B12E81D13B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8F74-7F0E-414B-9A57-17941867F10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5" name="Shap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3F4-0FE6-4AD2-A18C-07D1E27B585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45D-E593-4648-88AC-DAD1BE68DD1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D7B7-AE31-4087-8C2C-60F9C97D56E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DBC5-587B-4184-8988-D755AB4CDB7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CE6-F15A-4446-9E11-E4E8293060F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C57-D536-4787-BA10-269EFFBE18F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1CD-D33B-4343-A778-D7E71E391BE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0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9CF-3175-494F-BAAD-4E6FE5A14E7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DF16-F99A-4903-9384-768AFB953F1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My Family Tre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536" name="Diagram 5" descr=""/>
          <p:cNvPicPr/>
          <p:nvPr/>
        </p:nvPicPr>
        <p:blipFill>
          <a:blip r:embed="rId1"/>
          <a:stretch/>
        </p:blipFill>
        <p:spPr>
          <a:xfrm>
            <a:off x="450720" y="1176480"/>
            <a:ext cx="82425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2:20:12Z</dcterms:created>
  <dc:creator/>
  <dc:description/>
  <dc:language>en-US</dc:language>
  <cp:lastModifiedBy/>
  <dcterms:modified xsi:type="dcterms:W3CDTF">2008-11-21T02:20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701033</vt:lpwstr>
  </property>
</Properties>
</file>